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4297-5FD1-4511-A01E-7DA1E0DB67B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9AE0-715F-48A7-87C6-9529DCB4853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4FAC-8279-402C-BE5F-340208EFB3E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AF21-91F7-43D8-8081-1070C10D805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A4D3-DBA1-4F9F-96BF-3C59F1A71CB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43C2-EA19-49DE-9AB5-52368A6EFB6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A585-B379-46CB-9705-BA7B222BBE3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A1A3-F1D9-43A5-80E9-424815D4C13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9EB4-278E-4187-BB0C-BB251E1C3C0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28DB-8A9C-4CEA-A7FD-D408AE7C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3CD0-E259-41D4-9451-BDE0741D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3022-A3DE-42E2-A11B-05526417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AF40-F793-4869-B1BF-6482B1F0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24A7-167E-4B27-B8C9-AD9E8AF2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D1DB-9EAF-43E5-8276-F0A99B5E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61CF-E529-4D24-85D8-5DE54941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036D-1971-4C9D-A517-B6FAD04C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2761-1373-4DB8-BCA7-9C3A8922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C866-3C47-4BEB-B783-20A00B8C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7E60-ECDC-4FD7-A6F6-194C2B75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9AF8-2282-4457-ABD0-2DF35FAE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2CB3-418E-4F38-9874-D3AC6E1B14F0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968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Strategic Plan to Foster Immigration to Francophone Minority Commun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3348000" y="4568760"/>
            <a:ext cx="170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alibri"/>
                <a:ea typeface="Arial"/>
              </a:rPr>
              <a:t>Presentation by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2190600" y="4906800"/>
            <a:ext cx="42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  <a:ea typeface="Arial"/>
              </a:rPr>
              <a:t>Erika Gates-Gasse, OCA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4" descr=""/>
          <p:cNvPicPr/>
          <p:nvPr/>
        </p:nvPicPr>
        <p:blipFill>
          <a:blip r:embed="rId1"/>
          <a:stretch/>
        </p:blipFill>
        <p:spPr>
          <a:xfrm>
            <a:off x="4500720" y="6437160"/>
            <a:ext cx="2635200" cy="37656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2390760" y="5967360"/>
            <a:ext cx="1650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Trebuchet MS"/>
                <a:ea typeface="Arial"/>
              </a:rPr>
              <a:t>Orgwis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Trebuchet MS"/>
                <a:ea typeface="Arial"/>
              </a:rPr>
              <a:t>Organizational Standard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4446720" y="6093000"/>
            <a:ext cx="98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Calibri"/>
                <a:ea typeface="Arial"/>
              </a:rPr>
              <a:t>Funded by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itle 1"/>
          <p:cNvSpPr/>
          <p:nvPr/>
        </p:nvSpPr>
        <p:spPr>
          <a:xfrm>
            <a:off x="115920" y="189000"/>
            <a:ext cx="77724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300" spc="-1" strike="noStrike">
                <a:solidFill>
                  <a:srgbClr val="ffffff"/>
                </a:solidFill>
                <a:latin typeface="Trebuchet MS"/>
              </a:rPr>
              <a:t>Contex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2"/>
          <a:stretch/>
        </p:blipFill>
        <p:spPr>
          <a:xfrm>
            <a:off x="7209000" y="6308640"/>
            <a:ext cx="1108080" cy="517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3"/>
          <a:stretch/>
        </p:blipFill>
        <p:spPr>
          <a:xfrm>
            <a:off x="8354880" y="6024600"/>
            <a:ext cx="690840" cy="765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115920" y="966960"/>
            <a:ext cx="884880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0000"/>
                </a:solidFill>
                <a:latin typeface="Calibri"/>
              </a:rPr>
              <a:t>March 2002: </a:t>
            </a: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creation of the Citizenship and Immigration Canada Francophone Minority Communities Steering Committee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0000"/>
                </a:solidFill>
                <a:latin typeface="Calibri"/>
              </a:rPr>
              <a:t>November 2003: </a:t>
            </a: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the Steering Committee releases the </a:t>
            </a:r>
            <a:r>
              <a:rPr b="0" i="1" lang="en-CA" sz="1900" spc="-1" strike="noStrike">
                <a:solidFill>
                  <a:srgbClr val="000000"/>
                </a:solidFill>
                <a:latin typeface="Calibri"/>
              </a:rPr>
              <a:t>Strategic Framework to Foster Immigration to Francophone Minority Communities, </a:t>
            </a: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which outlined 5 objectives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0000"/>
                </a:solidFill>
                <a:latin typeface="Calibri"/>
              </a:rPr>
              <a:t>March 2005: </a:t>
            </a: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the Steering Committee publishes </a:t>
            </a:r>
            <a:r>
              <a:rPr b="0" i="1" lang="en-CA" sz="1900" spc="-1" strike="noStrike">
                <a:solidFill>
                  <a:srgbClr val="000000"/>
                </a:solidFill>
                <a:latin typeface="Calibri"/>
              </a:rPr>
              <a:t>Towards Building a Canadian Francophonie of Tomorrow: Summary of Initiatives 2002-2006 to Foster Immigration to Francophone Minority Communities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0000"/>
                </a:solidFill>
                <a:latin typeface="Calibri"/>
              </a:rPr>
              <a:t>September 2006: </a:t>
            </a: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the Steering Committee releases the </a:t>
            </a:r>
            <a:r>
              <a:rPr b="0" i="1" lang="en-CA" sz="1900" spc="-1" strike="noStrike">
                <a:solidFill>
                  <a:srgbClr val="000000"/>
                </a:solidFill>
                <a:latin typeface="Calibri"/>
              </a:rPr>
              <a:t>Strategic Plan to Foster Immigration to Francophone Minority Communities, </a:t>
            </a: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which is a five year plan to better coordinate the efforts to achieve the five objectives set out in the</a:t>
            </a:r>
            <a:r>
              <a:rPr b="0" i="1" lang="en-CA" sz="1900" spc="-1" strike="noStrike">
                <a:solidFill>
                  <a:srgbClr val="000000"/>
                </a:solidFill>
                <a:latin typeface="Calibri"/>
              </a:rPr>
              <a:t> Framework</a:t>
            </a: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Target: By 2008, 4.4% of newcomers outside of Quebec should be French-speaking.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The Steering Committee estimated it would take 15 years to reach the annual target of 8,000 to 10,000 French speaking immigrants to Francophone Minority Communities (FMCs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95280" y="549360"/>
            <a:ext cx="8424720" cy="48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Between 2003 and 2011, approximately 40% of French-speaking newcomers came from the sub-Saharan African reg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Outside of Quebec, Ontario has the greatest number of French-speaking people. New Brunswick has some 236,100 Francophones (33% of the its population). Ontario has 2x this number, with a population of 578,045 Francophones (~4.8% of total populatio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According to the 2006 Census, immigrants represent approximately 20% of the total population of Canada and 28% of the population of Ontario; 2.8% of immigrants in Ontario are French-speak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Francophone immigration is largely an urban phenomenon in Ontario. In 2006, 92% of Francophone immigrants lived in Toronto (33.1%), in Ottawa (24.3%) or in southern Ontario. Approximately 20% live in Peel and York. Hamilton, Halton, Essex, Waterloo, Middlesex, Durham, and Niagara account for approximately 15% of Francophone immigra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Refugees an important source of French-speaking newcomers (22% vs 11%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Trebuchet MS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The number and make-up of French-speaking immigrants to FMC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French-speaking immigrant” definition changed to specify those whose first official language is French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2.     Immigrant mobility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No data available on the mobility rate of French-speaking immigrants within Cana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3.     Integration difficulties for immigrant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4.     FMCs’ lack of capacity to recruit, receive and integrate French-speaking immigra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Trebuchet MS"/>
              </a:rPr>
              <a:t>Strategic Foc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alibri"/>
              </a:rPr>
              <a:t>Better integration of immigrants &amp; refugees already settled in FMC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French-speaking immigrants and refugees from Africa and Hai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alibri"/>
              </a:rPr>
              <a:t>Recruitment of new immigrant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Economic class immigrants and international students, refuge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alibri"/>
              </a:rPr>
              <a:t>Integration, retention and settlement of new French-speaking immigrants in FMC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Focused approach (targeted funding to specific FMCs with demonstrated capacity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Fostering the employability of workers trained abroad (focus on health &amp; educatio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Ensuring a functional methodology for teaching both official languages and an effective method for delivery (67% don’t use French at work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442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Trebuchet MS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0560" y="620280"/>
            <a:ext cx="87138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00"/>
                </a:solidFill>
                <a:uFillTx/>
                <a:latin typeface="Calibri"/>
              </a:rPr>
              <a:t>Coordination Mechanis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alibri"/>
              </a:rPr>
              <a:t>Local &amp; provincial: Réseaux en immigration francophone (Ottawa, Hamilton and Sudbury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alibri"/>
              </a:rPr>
              <a:t>National: Francophone Minority Communities Steering Committee, Implementation Committe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00"/>
                </a:solidFill>
                <a:uFillTx/>
                <a:latin typeface="Calibri"/>
              </a:rPr>
              <a:t>Priorities for 2006-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alibri"/>
              </a:rPr>
              <a:t>Implementing and supporting local network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alibri"/>
              </a:rPr>
              <a:t>Increasing awareness of the local community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alibri"/>
              </a:rPr>
              <a:t>Implementing language training in English and/or French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alibri"/>
              </a:rPr>
              <a:t>Providing training to upgrade professional and employability skill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Implement 3 major pilot projects over 5 years in at least 2 fields (education and health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alibri"/>
              </a:rPr>
              <a:t>Research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alibri"/>
              </a:rPr>
              <a:t>Supporting the creation of micro-businesse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alibri"/>
              </a:rPr>
              <a:t>Supporting French-language post-secondary institutions in the recruitment and integration of international student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6858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Proposal to support the initiatives of 10 post-secondary institution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685800" indent="-228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alibri"/>
              </a:rPr>
              <a:t>Promoting immigration and selecting potential immigrant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685800" indent="-228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alibri"/>
              </a:rPr>
              <a:t>Supporting refugee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rebuchet MS"/>
              </a:rPr>
              <a:t>Ontario Immigration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August 2011: Final Report: Research on Settlement Services Available in French for Francophone Newcomers to Onta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Francophone immigration to Ontario is increasing. They represent 2.8% of Ontario's total immigrant population. New Francophone immigrants who arrived between 2001 and 2006 represent 3.8% of Ontario's recent immigrants (2001-2006). Since 2000, 3,500 to 4,000 Francophones have immigrated to Ontario each yea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Labour-market integration and language classes identified by participants as major barrier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November 2012: Launch of Ontario’s Immigration Strate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Target: achieve 5% Francophone immigr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Expert Roundtable recommends using the Provincial Nominee Program to achieve this targe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Trebuchet MS"/>
              </a:rPr>
              <a:t>CIC Evaluation of the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8000" y="105264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July 2012: 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Evaluation of the Recruitment and Integration of French Speaking Immigrants to Francophone Minority Communities Initiative, 2008-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4.4% objective: 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CIC set a short and long term objective: 1.8% by 2013, 4.4% by 2023.  According to their numbers, 1.8% achieved in 200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Networks: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  stability of funding, national vs regional vis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Services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: increase in number of services provided in French (but stats are for agencies that have served at least </a:t>
            </a:r>
            <a:r>
              <a:rPr b="0" lang="en-CA" sz="2000" spc="-1" strike="noStrike" u="sng">
                <a:solidFill>
                  <a:srgbClr val="000000"/>
                </a:solidFill>
                <a:uFillTx/>
                <a:latin typeface="Calibri"/>
              </a:rPr>
              <a:t>one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 French-speaking newcome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Research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: significant new research created, but still an under-researched are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Recruitment barriers: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 immigrant selection process can be a significant barrier. Destination Can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19:27:32Z</dcterms:created>
  <dc:creator>dmontague</dc:creator>
  <dc:description/>
  <dc:language>en-US</dc:language>
  <cp:lastModifiedBy>egates-gasse</cp:lastModifiedBy>
  <dcterms:modified xsi:type="dcterms:W3CDTF">2013-09-26T16:15:23Z</dcterms:modified>
  <cp:revision>40</cp:revision>
  <dc:subject/>
  <dc:title>PowerPoint Presentation</dc:title>
</cp:coreProperties>
</file>